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1C06-774C-4A9A-BCD8-6512F4D4A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6B57-2664-4465-8DA5-987B6738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A5936E-F01D-455A-8E0E-C0409E6B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C31ED4-BB49-4B34-81A5-EFC95E42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2F2D6-5485-43A5-B30F-ADFEB6D7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265FB7-834F-4E0D-A22C-1AD2115E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FA6E37-9464-4BB8-8DF3-127B465B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69C8D1-CA1F-4626-B59D-E4CCB18E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01A3F6-0A77-406E-A44E-28F1DD83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714428-24B4-42E2-8248-D521720CB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8B005B-AE17-497B-BD89-9925D5CFF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B183B3-55DA-4B17-AB4C-3704123C2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2597-95EA-43AF-BAF2-194C3AFB7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1F8184-39D7-43CB-850E-D2AAB16A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E12D6B-7351-4B4F-BF3F-0BBED770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06AFB5-9484-41BF-A866-B224BC05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00BD18-5439-4B80-9E1E-AC516D78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40F2C7-754B-41A1-8246-ED7DD1F1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0E5B16-1C4A-4B76-B8A2-F670BB95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116614-EA56-4CA5-9A97-76A42120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56215F-5458-43CA-984A-25C4310F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C52E3D-C470-4D69-A656-A5D31014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FDA68C-81D4-48AE-9C3A-744827B4B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83A8-AC2A-43C7-992D-71344A5D6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DAF10A-3C0D-497B-98A9-0552648FC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98932-4B91-4217-8E50-943173F40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DD2A7B-7C32-4A2E-AE2F-63E7583D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BC3FD-0589-415D-9BA6-C2A75C97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A7953-DA7F-4E09-98A4-CDE12C58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6BE03-2DDC-4CF8-8EA5-4CC17890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6F84EE-C2FE-4BB1-9326-7A2860E2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DEF99-F0D3-49C4-9109-1191669F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E5BC0-39F6-453D-AC4E-60F0E317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60B547-E010-4B33-ACD4-2D51D511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8C3C-1871-4990-9DD3-ECC74A807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38C583-16BB-4F65-BD72-993FC117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24B78B-CAA0-4586-A30E-1344065CD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396A9-F98E-459C-85FF-5FB0744D4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756947-0442-44C1-AB2D-C0527AD54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7AB907-3C9B-4227-91EB-F5012778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5E2711-D487-4EF7-87EA-69FB6787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35A351-2D4C-4D48-96DE-60B13FE5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851A47-C652-4262-9933-7B3B9338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579620-F9B8-4779-A153-1BB59C20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80D528-E5DC-4893-8F8F-00CFF297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7DABA-1850-4030-99EF-44D6B4FA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20519E-9B7E-482B-B9A8-3832B929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0C0DF6-6F5E-482C-914C-400A467F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132C79-2550-4840-B513-D74087D8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4C0F3C-5DC4-4E94-8D3C-16D8F1D19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1E7B7A-8295-45F5-9AEC-D62048967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ADDBE6-B381-4548-9264-8E907BC0D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A387B4-8A9E-42CA-8FB6-B93FCBD3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4D1317-8744-4238-8AE6-894CBD98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D19F83-C16C-4F4A-92F3-A9F840B5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5193CF-78A2-4DEC-820B-4704F6F6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FB43D-1523-4EF7-A795-A5E9F411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81D673-8735-41E3-9EE2-0ED1DE88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3D77AB-78A0-4198-8D31-6B726162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A49D77-775C-46D0-AFB3-9105C368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4F92C9-311A-407D-9C51-586F9271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D23376-CE83-4F49-954A-447C681C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F7057F-9385-4B99-985D-6E93989C8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280644-BDB0-45A1-A03D-69865654E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A0958C-8FDF-4260-AEA2-C61C6CB8E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BA66DF-DC8D-4EDD-8102-EAD3410C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FC9BDE-1027-4D6D-BF44-960BDE5B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DA87-088F-4278-8FED-E79EC5C4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72DA9A-1FA9-4B2B-BE4D-5A6489A6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78B1B9-EDAD-4E82-BEA1-7D3090EB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B4DC69-501B-4FC1-8F01-A54570CB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86D9F6-F37F-446D-A7E5-14850CB7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D2B457-FF61-4CA7-97FF-AA179661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D633F8-C2E9-43EF-8FE9-0E8BAD42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A073E9-BE5F-4B27-8E8A-24555EBE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8A639F-7B51-45F4-B8A0-7942D9157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519EB5-6B81-45AE-903F-45D6FC711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99C89F-0CCB-44A6-8D3E-C44983AF7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34EB-CDC7-44CF-8B52-C11DF446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30F1E6-C9C4-4D12-AB93-B7B3FB72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7A175C-0C8C-41EC-9068-32A9AF46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FBAAA7-6352-4F50-94F9-732F72DC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2201FE-8BA4-4F99-808B-88419B95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44F81A-310E-4E7B-B832-7BA83E3B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5F456C-8A5E-4D3A-A446-3D49C483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3B101E-D9D6-4CDA-B6EA-AEC8DE28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546434-9C80-4398-9F32-CE287891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DCD9F9-19B2-4167-B759-F8F6BB03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0EC907-1C1C-4D58-8459-C309F3BD7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98FB-74A3-43B0-ABEF-4B35B4E5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4F292E-20D4-4F64-94B6-EAD87F861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CD7731-4123-4799-BA7F-7233F83A6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83D3CA-FF7B-4B9F-8E6D-5B89876C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BEB533-B668-464C-8254-4C39F4B8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7C0593-75EE-4F1A-A4E2-CCD14A13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28E105-F8F7-40E8-9B88-8F12D758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DD2055-C210-450E-9AB2-0A6B32B3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A6CBA7-01B7-4110-8A31-DF4013DB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AE9128-D4D4-4BB2-80AC-33847995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5F91BF-28F4-4EC0-9A09-3C6AEE57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6AF6-C240-44B3-880C-C5AF86E7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DC0106-6180-457F-A8E3-122187A5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9359C1-23A6-4B6B-949F-6B7634E30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3ED154-F83C-4A47-A208-F0C5E98F4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806167-E1F8-4A28-BE26-2DD40558F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7B7B86-970C-4C7A-8A64-01126025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120471-E0F9-4BF5-9B34-6AB5FBA4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3E8996-EE67-417C-9645-E08AABD2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DF7118-8ECD-49F7-B545-E39736DE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4383F7-F723-41B3-9431-7C91A7A5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C1D302-7E1D-4F49-AE8E-1BEAC98D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7D75-6E87-4C57-A41C-8043119C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363B-C747-4D90-A0C5-3F2A6A11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D491CE-9492-46AC-9A9C-AC74A653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BBF091-D385-4474-8336-AC031E1C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5F07E9-BE08-4D26-9EF5-A1373439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FD98DD-D9DE-41D2-8077-F5F218D8D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DCEB80-1469-4ACD-B6DA-F157D08F8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A8AD34-118D-4FE1-B646-869BF2308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1FF2D2-45CE-4F84-BD71-C3FE3F18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52D8B1-694D-4D7C-9CCB-926FD8D4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7F7167-3702-4632-8B80-C5FDC5CE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0B805A-AFCE-4CA7-8313-13CC5E30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E4A9-582F-4E94-9500-775741D4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9D78C3-B76E-4B26-BBE0-BFC7E9F2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C309FC-BEB8-4175-8C73-19EC45C5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12D875-9317-42D9-B5A8-93B2AF89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4A36FF-3AFE-4388-8EF7-8F3E0260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B29C2E-F062-4C8A-B0B2-B5FF3D83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6C1F7E-8A77-4B47-BCBD-58997E33E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2DEF84-F8D9-481B-BD91-A92F8A2AE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1E5769-4A25-442C-B11C-78FEB10D9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2ED51A-B845-4278-A3E4-8ECCE99B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FA8C52-B3D5-4ADA-A01C-90E3B474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0BF0-577C-4F2E-B975-F2D744E6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8C2982-3830-4D70-905F-E823D7A3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94181A-1784-4E0E-8581-FBE026E0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1294DD-BC86-43DE-BB09-1CBE9569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0302F3-B16F-4984-B66D-40B655DB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B74E19-7102-4C36-A099-A918354A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34238A-9549-4F7B-9C0A-301CF3D2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B9B9FC-C6EF-4E6C-A846-731026B9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D5FB86-CAC2-4277-823A-9270F556A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124CEB-0DB3-452C-A1D7-731A85C15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3B87E6-E51C-42A7-B075-5D045BBF4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3CF91-D7DF-412D-89A3-3FFE74F7C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9028D1-6A18-44BF-8C94-7B266D67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6A7654-837F-4EF0-B30F-238E5516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64DF13-5006-4DDD-A4EF-39704C3B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73D331-F597-4678-A727-1AB00E32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E10557-D467-4436-9EB3-E7A6EC9E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C75A94-C272-471A-98A1-8A2A71ED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FD2701-5870-4A8C-9942-E621A7CF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95345C-E508-414B-9198-19B91DE0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C06321-650E-4A0C-8D2A-18AF271D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806DE5-8EE6-4F6D-9A10-0FE81555A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D94A-2C28-4142-8775-602040FE9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0645A4-73E9-4E75-AE29-4A5DAE1C3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C24C3A-BD8E-4ECD-B14B-9FD55872B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B0DE5C-2734-4F70-A823-1926376F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FD0156-CD33-41DA-9696-122F7F71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F89310-FCC6-4622-9F6F-2DE38BC9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586C35-1888-4D57-A3FE-009BC2EB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C9FE84-744D-4633-967B-0793A6A0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6CC154-4C96-4108-A9FD-42B57ECC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457C3B-34A9-43F5-B593-D0F455DE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7031AA-BCDF-44A6-ACC5-5AFDD528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F0857-F8DF-4157-91D5-01CA55290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49A16F-CC4C-4CE7-8A46-EA23C046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79DAE7-E675-4A51-98E9-7E2FAC4AB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741FC8-37E5-4F11-8CC5-B3B032795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FDF0C-80B1-47E7-B5B2-92B08063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31106-FBED-4D25-81CB-E2402DCC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6FF22-CB9E-4783-BBD2-FC449AC5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2A2FD-D248-47C4-8471-C4679572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84E4-75DB-4DB0-BA6D-03888B94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0DF52-FDAF-4F08-B65E-8647E524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923CF-7371-4CF2-998A-56C21E41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E0094-1DD3-48F5-B5B9-B99AF208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C31C9-321B-4BC7-B286-E3E3000B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AD92E-BCFA-4E4E-B84B-9D239CAA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F90A4-F134-4A2D-924A-353998E71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054F1-4BDA-4511-BC1D-1C3C885E9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98A11-F694-465D-98AB-463092CE6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3EFC1-46E4-4862-A063-2A96E926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4A3FB-323B-4D02-95F9-1F9BF8DB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A42B-D208-4D11-955B-01FCF95C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5B1DA-1970-4124-98AE-D9ABD7C3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63187-9F63-4268-A3B6-81AEECF6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5792D-37BA-4882-9319-94AD77BD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6C0BD-3A4A-40C3-A811-63581737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917CE-D0EA-4637-8667-C0D08655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651F2-D1D3-4E84-A828-1C11C36C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5C0EA-21EC-4E8C-BACC-E3F5A0DF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29619-D12C-4597-BA17-2A9831DC7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4C676-615E-441C-B814-C596A89EF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60870-0A12-483D-9B8D-FAB48D59B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3DF8-96F1-4F3F-A3E0-1397DC82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E3CE3-04E3-49A5-83E2-0FA87A24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FB00F-1793-4FEB-990A-37E901C7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4B3CF-3C77-428B-B600-C89C9425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5A3CF-DFAF-4E90-913B-A18FBA17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4E2E3-BBA6-4A6F-8C1A-B7A34A31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2F35E-F4EF-4FA0-AB82-9A123838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7464D-B7BA-48D9-80D8-4A691466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2D8AF-2DE6-404F-A2AB-7CF81399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A68B8-FCAB-483D-9028-74F27768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FFB37-C9AD-47BF-96A5-DB00E6E44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873C-7E64-4945-A08D-F8E2005C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A2A70-0039-401E-BA78-3DA002FB0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69D52-F84D-44A0-8239-70CDB606F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17A7D-3E17-4B0A-A454-9E54E3EC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A26AA-0E17-4BA0-A2C1-40D29A11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FC10A-F750-4EDD-B3E4-76E92939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5EE10-26AA-4120-A298-8072325C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F35E1-B657-44BE-82AA-CDD854B4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388C1-B513-4A9E-A733-DDB0171F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0DEAB-3E2A-4B4A-A348-5FD84374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9AF59-FEFA-4FF5-9837-7D3AF160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C493-39F4-478E-A161-09A3CE01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34B36-5435-410B-B9B0-C44AB010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39E99-DF01-43BB-8295-F71355681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ED38C-91EF-40A2-8F8F-2775142CA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8DF32-F593-4607-A54C-E215D7578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A2B69-1122-4E6C-9153-58E2B5EF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BADF2-7A4E-413B-92A6-8618CDB50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018A6-1D5C-4F3E-BD18-A39A52EC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0CD72-0AAC-4E1E-B2DA-B202B283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CFE05-A455-45EF-B6CD-53D78992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990C9-A22F-42F8-9127-EBFF4DD7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40AB-3607-4870-95BE-CEF24482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8B221-3CB0-4F3C-89E5-170D7CB9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AC4AB-A640-4D63-A0D6-4473838E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E2F5E-5C87-4B6F-A6CD-36983DDC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96FFA-F86C-41CB-92C6-7446979D6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8F871-11B9-4716-A2AB-CB6E75DC5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AD61C-9CC0-4888-8F84-3CDB80317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35151-27CC-4646-B47D-69D0C109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8A41E-C998-41DB-81CD-07EBAC12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9A16B-4F7F-4DE1-BDF4-2FED39FC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988F4-F41F-4401-A644-CD15F97D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BC84-A2F3-4EC4-96BB-3BA20F57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E9DE5-F599-461D-BB7F-D9371AA4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B11D3-BE68-4C5E-B951-7E65143C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48CF5-F105-49A8-9C2E-4BDCE1D3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6FA69-5729-4E20-B6FF-7F5B4E97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E9D97-C358-45A5-A757-A4E85E41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73286-27DD-47D9-AE5D-E5993C909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909A9-1220-4BEF-8B56-DB7E49A70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3668A-2B9F-4D63-A6A6-19304C548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1B2F09-2E5C-4450-A993-B36FB593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374C4F-3057-4154-A0A1-ECF05005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4D0E-6EEB-4EFC-9B62-B549A58F9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BF76-C67D-4715-AA66-2E73BC83D7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7897-7C39-4810-8B5C-ECC19A6F3A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4434-7C92-441F-8880-3ACE1A683A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7F75-917F-4668-B5C1-310505FC86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D284-A280-4B2D-86B6-8962B46B46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1C6B-4794-4211-9D0D-131F0A087F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63F8-5939-4F0E-8368-747A3AA5AC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3147-1B09-4780-A823-CFAA65843E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0122-45D3-4714-8831-6992228A4C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C57B-41DF-481A-B7C0-183FB57B99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8754-4A55-4909-A576-A5325FBA4A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96D8-A718-4FE9-8CC1-AA3DB91A26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DA8E-5EDD-4DCC-8834-FD7E431F3A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D38A-0B04-44D1-A20E-14A21CEAE2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41F0-93FB-41BE-B9D0-2D38B5BE29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0E6F-69A9-45C4-807C-90CAA14253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FA23-A711-4DF4-B10D-519AA87BFB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C6FB-BB2F-47E2-9D7A-9DF49A12FB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796B-33F2-49A2-8270-46D4EC2A30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10C5-7C4E-4CDF-9FA7-5EB25D5F77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F44C-1B40-4D65-83FB-2E41CFC326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8119-DFDD-4D08-B412-78B1372AEF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0914-47F4-41D9-951F-06AB2DD1AB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D4BD-6B47-45C8-9C46-ECA565186C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1ABF-9723-436A-87CC-411380F995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D7AE-B1AC-4B08-A79B-2A0C594830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B4DD-D3CE-491D-9229-DF35C7988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99F7-0A40-4AFD-9EE8-F8D3976B9F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53FB-E114-4116-9374-7780FE2B51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D1FC-4413-4BDD-84B3-D646C0A2C6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E3F5-6A96-4A3D-A118-343DC0E906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0C64-4351-4A7E-8CED-111D5BF3E7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8873-04C6-4974-8E29-F9C1876C11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D1E3-56E5-4644-A46D-2326E7C4B8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A55F-ACC7-4D4E-96E2-2CDBF3D6C0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C750-F97B-42C2-9AF5-2CDD415AA2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E7FB-3FE9-43FD-87E9-E731E9EDB2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3A3A-616C-48AE-9220-F5BF49752B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8DA7C-65D4-4AE0-8B16-F9FFEECB10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901800" y="2448000"/>
            <a:ext cx="7486560" cy="98100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2" descr=""/>
          <p:cNvPicPr/>
          <p:nvPr/>
        </p:nvPicPr>
        <p:blipFill>
          <a:blip r:embed="rId2"/>
          <a:stretch/>
        </p:blipFill>
        <p:spPr>
          <a:xfrm>
            <a:off x="1224000" y="3724200"/>
            <a:ext cx="6696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7" name="图片 1" descr=""/>
          <p:cNvPicPr/>
          <p:nvPr/>
        </p:nvPicPr>
        <p:blipFill>
          <a:blip r:embed="rId1"/>
          <a:stretch/>
        </p:blipFill>
        <p:spPr>
          <a:xfrm>
            <a:off x="528480" y="1585800"/>
            <a:ext cx="8085240" cy="368640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2"/>
          <a:stretch/>
        </p:blipFill>
        <p:spPr>
          <a:xfrm>
            <a:off x="855720" y="187308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3"/>
          <a:stretch/>
        </p:blipFill>
        <p:spPr>
          <a:xfrm>
            <a:off x="826920" y="378936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2" name="图片 1" descr=""/>
          <p:cNvPicPr/>
          <p:nvPr/>
        </p:nvPicPr>
        <p:blipFill>
          <a:blip r:embed="rId1"/>
          <a:stretch/>
        </p:blipFill>
        <p:spPr>
          <a:xfrm>
            <a:off x="328680" y="1752480"/>
            <a:ext cx="8485200" cy="335304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2"/>
          <a:stretch/>
        </p:blipFill>
        <p:spPr>
          <a:xfrm>
            <a:off x="2124000" y="3213000"/>
            <a:ext cx="2664000" cy="44928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3"/>
          <a:stretch/>
        </p:blipFill>
        <p:spPr>
          <a:xfrm>
            <a:off x="7553160" y="32130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1" descr=""/>
          <p:cNvPicPr/>
          <p:nvPr/>
        </p:nvPicPr>
        <p:blipFill>
          <a:blip r:embed="rId4"/>
          <a:stretch/>
        </p:blipFill>
        <p:spPr>
          <a:xfrm>
            <a:off x="2195640" y="4522680"/>
            <a:ext cx="576000" cy="44928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1" descr=""/>
          <p:cNvPicPr/>
          <p:nvPr/>
        </p:nvPicPr>
        <p:blipFill>
          <a:blip r:embed="rId5"/>
          <a:stretch/>
        </p:blipFill>
        <p:spPr>
          <a:xfrm>
            <a:off x="3924360" y="4522680"/>
            <a:ext cx="25192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9" name="图片 1" descr=""/>
          <p:cNvPicPr/>
          <p:nvPr/>
        </p:nvPicPr>
        <p:blipFill>
          <a:blip r:embed="rId1"/>
          <a:stretch/>
        </p:blipFill>
        <p:spPr>
          <a:xfrm>
            <a:off x="633240" y="2124000"/>
            <a:ext cx="7875720" cy="261000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1" descr=""/>
          <p:cNvPicPr/>
          <p:nvPr/>
        </p:nvPicPr>
        <p:blipFill>
          <a:blip r:embed="rId2"/>
          <a:stretch/>
        </p:blipFill>
        <p:spPr>
          <a:xfrm>
            <a:off x="1763640" y="28386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1" descr=""/>
          <p:cNvPicPr/>
          <p:nvPr/>
        </p:nvPicPr>
        <p:blipFill>
          <a:blip r:embed="rId3"/>
          <a:stretch/>
        </p:blipFill>
        <p:spPr>
          <a:xfrm>
            <a:off x="6516720" y="2824200"/>
            <a:ext cx="1440000" cy="44928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1" descr=""/>
          <p:cNvPicPr/>
          <p:nvPr/>
        </p:nvPicPr>
        <p:blipFill>
          <a:blip r:embed="rId4"/>
          <a:stretch/>
        </p:blipFill>
        <p:spPr>
          <a:xfrm>
            <a:off x="2484360" y="4133880"/>
            <a:ext cx="187164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95" name="图片 1" descr=""/>
          <p:cNvPicPr/>
          <p:nvPr/>
        </p:nvPicPr>
        <p:blipFill>
          <a:blip r:embed="rId1"/>
          <a:stretch/>
        </p:blipFill>
        <p:spPr>
          <a:xfrm>
            <a:off x="277920" y="115920"/>
            <a:ext cx="8686800" cy="651492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1" descr=""/>
          <p:cNvPicPr/>
          <p:nvPr/>
        </p:nvPicPr>
        <p:blipFill>
          <a:blip r:embed="rId2"/>
          <a:stretch/>
        </p:blipFill>
        <p:spPr>
          <a:xfrm>
            <a:off x="1258920" y="350028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1" descr=""/>
          <p:cNvPicPr/>
          <p:nvPr/>
        </p:nvPicPr>
        <p:blipFill>
          <a:blip r:embed="rId3"/>
          <a:stretch/>
        </p:blipFill>
        <p:spPr>
          <a:xfrm>
            <a:off x="1258920" y="414972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1" descr=""/>
          <p:cNvPicPr/>
          <p:nvPr/>
        </p:nvPicPr>
        <p:blipFill>
          <a:blip r:embed="rId4"/>
          <a:stretch/>
        </p:blipFill>
        <p:spPr>
          <a:xfrm>
            <a:off x="1258920" y="479736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1" descr=""/>
          <p:cNvPicPr/>
          <p:nvPr/>
        </p:nvPicPr>
        <p:blipFill>
          <a:blip r:embed="rId5"/>
          <a:stretch/>
        </p:blipFill>
        <p:spPr>
          <a:xfrm>
            <a:off x="1258920" y="54450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1" descr=""/>
          <p:cNvPicPr/>
          <p:nvPr/>
        </p:nvPicPr>
        <p:blipFill>
          <a:blip r:embed="rId6"/>
          <a:stretch/>
        </p:blipFill>
        <p:spPr>
          <a:xfrm>
            <a:off x="1258920" y="613584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8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1" descr=""/>
          <p:cNvPicPr/>
          <p:nvPr/>
        </p:nvPicPr>
        <p:blipFill>
          <a:blip r:embed="rId2"/>
          <a:stretch/>
        </p:blipFill>
        <p:spPr>
          <a:xfrm>
            <a:off x="692280" y="669960"/>
            <a:ext cx="7761240" cy="61056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3"/>
          <a:stretch/>
        </p:blipFill>
        <p:spPr>
          <a:xfrm>
            <a:off x="1692360" y="3559320"/>
            <a:ext cx="3240000" cy="4492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4"/>
          <a:stretch/>
        </p:blipFill>
        <p:spPr>
          <a:xfrm>
            <a:off x="5219640" y="3559320"/>
            <a:ext cx="3240000" cy="4492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5"/>
          <a:stretch/>
        </p:blipFill>
        <p:spPr>
          <a:xfrm>
            <a:off x="1332000" y="6208560"/>
            <a:ext cx="3240000" cy="4492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6"/>
          <a:stretch/>
        </p:blipFill>
        <p:spPr>
          <a:xfrm>
            <a:off x="5219640" y="6237360"/>
            <a:ext cx="3240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652320" y="1000080"/>
            <a:ext cx="7837560" cy="485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1692360" y="1916280"/>
            <a:ext cx="576000" cy="4489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1692360" y="3357720"/>
            <a:ext cx="576000" cy="4492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4"/>
          <a:stretch/>
        </p:blipFill>
        <p:spPr>
          <a:xfrm>
            <a:off x="1692360" y="4797360"/>
            <a:ext cx="576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2" name="图片 1" descr=""/>
          <p:cNvPicPr/>
          <p:nvPr/>
        </p:nvPicPr>
        <p:blipFill>
          <a:blip r:embed="rId1"/>
          <a:stretch/>
        </p:blipFill>
        <p:spPr>
          <a:xfrm>
            <a:off x="828720" y="2743200"/>
            <a:ext cx="7486560" cy="137160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2"/>
          <a:stretch/>
        </p:blipFill>
        <p:spPr>
          <a:xfrm>
            <a:off x="1187280" y="28526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3"/>
          <a:stretch/>
        </p:blipFill>
        <p:spPr>
          <a:xfrm>
            <a:off x="1187280" y="350028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7" name="图片 1" descr=""/>
          <p:cNvPicPr/>
          <p:nvPr/>
        </p:nvPicPr>
        <p:blipFill>
          <a:blip r:embed="rId1"/>
          <a:stretch/>
        </p:blipFill>
        <p:spPr>
          <a:xfrm>
            <a:off x="523800" y="1590840"/>
            <a:ext cx="8096400" cy="36763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2"/>
          <a:stretch/>
        </p:blipFill>
        <p:spPr>
          <a:xfrm>
            <a:off x="3708360" y="3933720"/>
            <a:ext cx="1511280" cy="4492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3"/>
          <a:stretch/>
        </p:blipFill>
        <p:spPr>
          <a:xfrm>
            <a:off x="3276720" y="4624560"/>
            <a:ext cx="1511280" cy="44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2" name="图片 1" descr=""/>
          <p:cNvPicPr/>
          <p:nvPr/>
        </p:nvPicPr>
        <p:blipFill>
          <a:blip r:embed="rId1"/>
          <a:stretch/>
        </p:blipFill>
        <p:spPr>
          <a:xfrm>
            <a:off x="547560" y="2052720"/>
            <a:ext cx="8047080" cy="275256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2"/>
          <a:stretch/>
        </p:blipFill>
        <p:spPr>
          <a:xfrm>
            <a:off x="3708360" y="3471840"/>
            <a:ext cx="1655640" cy="4492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3"/>
          <a:stretch/>
        </p:blipFill>
        <p:spPr>
          <a:xfrm>
            <a:off x="6588000" y="3443400"/>
            <a:ext cx="1440000" cy="4492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4"/>
          <a:stretch/>
        </p:blipFill>
        <p:spPr>
          <a:xfrm>
            <a:off x="1332000" y="4164120"/>
            <a:ext cx="23032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8" name="图片 1" descr=""/>
          <p:cNvPicPr/>
          <p:nvPr/>
        </p:nvPicPr>
        <p:blipFill>
          <a:blip r:embed="rId1"/>
          <a:stretch/>
        </p:blipFill>
        <p:spPr>
          <a:xfrm>
            <a:off x="528480" y="2133720"/>
            <a:ext cx="8085240" cy="259056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2"/>
          <a:stretch/>
        </p:blipFill>
        <p:spPr>
          <a:xfrm>
            <a:off x="4211640" y="3457440"/>
            <a:ext cx="1584360" cy="4492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3"/>
          <a:stretch/>
        </p:blipFill>
        <p:spPr>
          <a:xfrm>
            <a:off x="6804000" y="3457440"/>
            <a:ext cx="1584360" cy="4492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4"/>
          <a:stretch/>
        </p:blipFill>
        <p:spPr>
          <a:xfrm>
            <a:off x="4211640" y="4164120"/>
            <a:ext cx="1368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4" name="图片 1" descr=""/>
          <p:cNvPicPr/>
          <p:nvPr/>
        </p:nvPicPr>
        <p:blipFill>
          <a:blip r:embed="rId1"/>
          <a:stretch/>
        </p:blipFill>
        <p:spPr>
          <a:xfrm>
            <a:off x="744480" y="1339920"/>
            <a:ext cx="7970760" cy="195264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2" descr=""/>
          <p:cNvPicPr/>
          <p:nvPr/>
        </p:nvPicPr>
        <p:blipFill>
          <a:blip r:embed="rId2"/>
          <a:stretch/>
        </p:blipFill>
        <p:spPr>
          <a:xfrm>
            <a:off x="744480" y="3743280"/>
            <a:ext cx="5353200" cy="252432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3"/>
          <a:stretch/>
        </p:blipFill>
        <p:spPr>
          <a:xfrm>
            <a:off x="3780000" y="2708280"/>
            <a:ext cx="1368360" cy="44928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4"/>
          <a:stretch/>
        </p:blipFill>
        <p:spPr>
          <a:xfrm>
            <a:off x="6948360" y="2693880"/>
            <a:ext cx="1368720" cy="44928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5"/>
          <a:stretch/>
        </p:blipFill>
        <p:spPr>
          <a:xfrm>
            <a:off x="1908000" y="5070600"/>
            <a:ext cx="648000" cy="44928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6"/>
          <a:stretch/>
        </p:blipFill>
        <p:spPr>
          <a:xfrm>
            <a:off x="3132000" y="5719680"/>
            <a:ext cx="1440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2" name="图片 1" descr=""/>
          <p:cNvPicPr/>
          <p:nvPr/>
        </p:nvPicPr>
        <p:blipFill>
          <a:blip r:embed="rId1"/>
          <a:stretch/>
        </p:blipFill>
        <p:spPr>
          <a:xfrm>
            <a:off x="138240" y="1143000"/>
            <a:ext cx="8866080" cy="457200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2"/>
          <a:stretch/>
        </p:blipFill>
        <p:spPr>
          <a:xfrm>
            <a:off x="1187280" y="234936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3"/>
          <a:stretch/>
        </p:blipFill>
        <p:spPr>
          <a:xfrm>
            <a:off x="1187280" y="414972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43:48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